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9FC0-7D64-4162-B9D9-0569CF4D9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983A-1759-4ADE-9C05-0979FECB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55705-1D74-44F9-A5D4-908077A6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1B1B-B587-4F46-9ADE-7CF34B87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AEC-B808-4883-8409-5DBFEA1E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55E-BD47-4474-833C-845EC70F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3562-F28B-4C53-AF61-149F15C3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C51F-F18D-48B5-9540-A347D47C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306F-F4E2-4C1F-BA2B-43942B4B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4334-3DB5-4A5F-A5C7-3E08FDA8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EA32-D1D8-4E27-9063-53AA1F4F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0F58-9AE6-4F78-B180-3486515A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4343-AE78-46D2-B02C-4E8757430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59480" y="824760"/>
            <a:ext cx="7026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1. Comment ne pas te lo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ent ne pas te louer (x 3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igneur Jésus ! Comment ? Comment ?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 Quand je regarde autour de mo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ois ta gloire Seigneur Jésus, je te béni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ne pas te louer Seigneur Jésus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? Comment 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- Quand je regarde autour de moi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ois mes frères Seigneur Jésus, merci pour eux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ne pas te louer Seigneur Jésus 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 ? Commen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496600" y="799200"/>
            <a:ext cx="4150440" cy="52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9200" tIns="468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0. Acclamez Dieu toute la ter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cclamez Dieu toute la ter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z-le dans l'allégres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ez à lui avec des chants de joi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éternel est son amour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éluia, Alléluia, Alléluia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Lui, le Seigneur est notre Die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le troupeau de son bercail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us a faits et nous sommes à lu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éternel est son amour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llez à lui en rendant grâ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ses parvis avec des hymn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ndez-lui grâce et bénissez son Nom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éternel est son am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29120" y="90000"/>
            <a:ext cx="82854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11. Alleg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Rassemblés dans une seule foi, un seul coeur pour te louer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tons nos hymnes de joie, ô Seigneur ressuscité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posons tout, devant toi, en ton coeur si assoiffé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issons toutes nos voix, pour acclamer ta bonté ! Nous venons à toi ! 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. Alegria, Alegria, Mon âme exalte le Seigneur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egria, Alegria, Jésus, vient habiter nos coeurs !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Ô Marie, Vierge Bénie, tu nous accueilles aujourd'hui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ui, l'enfant qui en toi, est mon Dieu, il est mon Roi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parole est accomplie qui prend chair en toi Marie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 toi, je crie de joie, en Jésus, Dieu vient à moi ! Nous venons à toi !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Notre Dame et Notre Mère, debout au creux du rocher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 voici devant mes yeux, donne-moi d'aller à Dieu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c toi je veux prier, implorer, intercéder :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ésus Fils de Dieu Sauveur, prends pitié de nous pécheurs! Nous venons à toi !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. Toi la Mère du Seigneur, près de lui jusqu'à la Croix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emme au courage infini, toi qui as porté la Vi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e-moi de t'écouter, d'être là à tes côtés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yeux fixés sur Jésus, lui ma force et mon Salut. Nous venons à toi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721960" y="-44640"/>
            <a:ext cx="369972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2. Hosanna, ouvrons les po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anna, hosa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ons les portes au Ro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 Dieu de gloi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çons des cris de joi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issons jail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chant de victoir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sanna, hosanna, hosann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Marchons ensem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'ennemi tremb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avec n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ssons les ténèb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Qui pourra 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priè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avec n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ons sa banni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ansons devant Lu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plis de sa v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avec no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ons sa lou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160" y="459000"/>
            <a:ext cx="45957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3. Il est temps de quitter vos tombe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Il est temps de quitter vos tombeaux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sortir du sommeil de la nuit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'aller vers la lumière acclame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Dieu trois fois Saint ! (bi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ainqueur de la nuit, Christ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dévoiles la face du Pèr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es la lumière, tu es notre joi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s béni, ô Dieu qui nous libères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Unis à ton corps, Christ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nous mènes à la gloire éternell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présentes au Père ceux qu'il t'a confié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s loué, reçois notre prière !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59120" y="2362680"/>
            <a:ext cx="44798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u donnes l'Esprit, Christ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déverses les fleuves d'eaux viv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s aimé du Père tu nous as sauvé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ire à toi, pour ta miséricorde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Roi de l'univers, Christ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 qui trônes à la droite du Pèr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viens dans la Gloire pour nous releve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Ô Seigneur que s'ouvre ton Royaume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110760" y="227880"/>
            <a:ext cx="29224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14. Alleluia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 hé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 héhéhé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 hé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 héhéhé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ons le Seigneur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éluia- Alléluia hé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lamons Jésus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éluia- Alléluia hé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rist est ressucité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uia- alléluia Hé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ons tous Jésus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uia- alléluia Hé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n veut semer la joie ! (x2)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- Alluia- alléluia Hé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788480" y="227880"/>
            <a:ext cx="55666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5. Au cœur des montag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Au cœur des montagnes des champs des rivières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 chemins des clairières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 fleurs s'élancent et battent en cœur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 rythme du bonheur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 froids les pluies les mauvais temp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 neige les glaces le ve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 froids les pluies les mauvais temp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 neige les glaces le vent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 toute la Terre loue son créat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 montagnes et les mers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ent le Dieu vainqueur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 toute la Terre loue son créateur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 création du Père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ue le Dieu vainqueur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es abeilles aux lavandes des aigles aux poiss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 Chantent pour Die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 cet arc-en-ciel illuminant le ci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 merveilles en merveil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82680" y="776520"/>
            <a:ext cx="4778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16. Vous recevrez une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- Vous recevrez une forc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elle de l'Esprit Sain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deviendrez des apôtr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son nom élevez les mains (bis)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- Viens Saint Esprit embraser les nation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ens Saint Esprit sur cette généra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ens Saint Esprit embraser les nation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Viens Saint Esprit sur cette génération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hohoho...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- Vous partirez sur les rout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clamer "Jésus est la vie"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vous n'aurez aucun dout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brasés par le Saint Esprit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87960"/>
            <a:ext cx="6343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7. Nous dan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Dieu est dans nos villes 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dans nos places 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dans nos hymn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sur nos trac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Dieu est là, là où on ne l’attend pa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dansons, nous dansons pour notre géné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prions, nous prions parmi les acclamation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levons nos mains vers lu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marchons, nous marchons, reçois notre ado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venons, nous venons élever ton Saint Nom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re Dieu est avec nous, maintenan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ieu est dans nos yeux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dans nos main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sur nos lèvr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dans nos voix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Dieu est là, là où on ne l’attend pa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121932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ieu dans notre histoir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dans notre temp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dans nos mémoir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là partout présent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Dieu est là, là où on ne l’attend pa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4800600"/>
            <a:ext cx="464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ève-toi, lève toi, Ton Dieu a besoin de to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voici, nous voici là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ève-toi, lève-toi, Rien ne se fera sans to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voici, nous voici là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078280" y="1325520"/>
            <a:ext cx="49874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8. Bondiss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ésus seul est ma lumière mon abri mon roc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ui qui me libère me remplit de Sa paix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t grand Il est fort Il est bon mon Die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ésus seul est ma lumière mon abri mon roc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ndissez de jo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vons notre Ro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sse des cris de joi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ons pour notre Roi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ez! 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uez chantez pour votre Dieu(bis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ez dansez bénissez Dieu (bis)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331360" y="1920600"/>
            <a:ext cx="4483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19. Abba P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and le bonheur s’en va va 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 que je reste là là l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n esprit dit tout bas bas 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 tu es mon Papa Pa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bba Père X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79840" y="459360"/>
            <a:ext cx="73861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2. Bénissez Di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énissez Dieu, vous serviteurs de Die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us tous qui demeurez, dans la maison de Di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vez les mains vers le Dieu trois fois s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lamez qu'il est bon, que son Nom et Pui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Oui, je le sais : notre Seigneur est gr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ut ce qu’il veut, sa main peut l’accompl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 fond des mers jusqu’au fond des abîm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uis la terre jusqu’au plus haut du ciel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Reconnaissez que le Seigneur est b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est fidèle en tout ce qu’il a fa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veux chanter la douceur de son N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éni soit Dieu par toutes les nation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0120" y="-46440"/>
            <a:ext cx="68634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0. Notre Père (EX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Pèr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es au Cieux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ton nom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it sanctifié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ton règn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n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ta volonté soit faite sur la terre comme au 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 au 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e-nou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pain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jourd’hui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demain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donne-nou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s offense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 nous les pardonnon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tous ceux qui nous ont offensés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 nous soumets pas à la tentation mais délivre-nous du mal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c’est à toi qu’appartiennent, pour les siècles des sièc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ègne la puissance et la g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ègn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uissance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ègne la puissance et la gloire (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48680" y="687600"/>
            <a:ext cx="61988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1. Oui Seigneur tu es 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i, Seigneur, tu es bon, oui, Seigneur, tu es ma forc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i, Seigneur, tu es bon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Crions de joie pour le Seigneu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tons, remplis d´amour pour lui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m´a guéri, m´a délivré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Ma force et ma joie sont en lui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i, mon rempart c´est son Esprit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terre est pleine de son amour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a croix, Jésus, m´a délivré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on angoisse, de mon péché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 côté ouvert m´a guéri, alléluia !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20960" y="2057400"/>
            <a:ext cx="4518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Oh ! oui, Seigneur, tu es ma forc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i ma lumière et mon salu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 confiance est dans ton amour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Père très bon, Dieu d´Abraham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ésus, Sauveur du monde entie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rit de feu, torrent de joie, alléluia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Merci, Seigneur, pour ton Espri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pour ta grâce mise en nos cœ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 pour nos vies purifiées, allélui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070720" y="502200"/>
            <a:ext cx="50025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22. Je t’exalte ô roi mon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e t’exalte, ô roi mon Dieu,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e bénis ton nom à jamais,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e veux te bénir chaque jour,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ouer ton nom toujours et à jamais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Le Seigneur est tendresse et pitié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I est lent à la colère et plein d'amour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igneur est bonté envers tous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s tendresses vont à toutes ses oeuvres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Que tes oeuvres, Seigneur, te rendent grâce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es amis bénissent ton nom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'ils disent la gloire de ton règne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'ils parlent, ô Dieu de ta promesse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Je veux dire la louange du Seigneur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oute chair bénisse son Saint Nom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intenant, toujours et à jamais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lléluia, Allélu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381960" y="551160"/>
            <a:ext cx="4792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3. Criez de joie vous les pauvres de cœ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ez de joie, vous les pauvres de cœu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us les enfants bien-aimés du Seigneur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vrez les yeux, car le Royaume est là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ici pour vous le Sauveur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Je bénirai le Seigneur en tout temp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âme exulte et jubile en mon Dieu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es petits écoutent et crient de jo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ureux, car ils verront Dieu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enez chanter, magnifier le Seigneu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 je l´appelle, toujours il répo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es frayeurs, il vient me délivr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nom de gloire est puissant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673160" y="2590920"/>
            <a:ext cx="44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ournez les yeux, regardez notre Dieu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le contemple, par lui resplendi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pauvre crie le Seigneur lui répond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yez, le Seigneur est bo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Heureux celui qui prend refuge en Die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le choisit ne manquera de rien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coute-le, et recherche la pai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lui, fais ce qui est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5880" y="307440"/>
            <a:ext cx="4075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4. Par toute la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r toute la terre il nous envoi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émoigner de son Amour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lamer son Nom et son Salu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force de l'Esprit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nos yeux ont vu et reconn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auveur ressusci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aint d'Israël, né de Mar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s de Dieu qui donne vie !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ar sa vie donnée, son sang vers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a racheté nos vie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détruit les portes des enfer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us sauve du péché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tout homme il offre le Salu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gratuit de son Amour 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vons dans sa gloire et sa clar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intenant et à jamais !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44800" y="990720"/>
            <a:ext cx="439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Criez de joie, Christ est ressuscité !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 nous envoie annoncer la vérité !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iez de joie, brûlez de son amour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 il est là, avec nous pour toujour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956840" y="3886200"/>
            <a:ext cx="405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Pour porter la joie Il nous envo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rs de son Salut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uvres serviteurs qu'il a choisi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acrés pour l'annoncer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nos lèvres chantent sa bonté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splendeur de son dessein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ire à notre Dieu, Roi tout puissa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ternel est son amour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400" y="763920"/>
            <a:ext cx="4618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5. Célébrez la bonté du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ébrez la bonté du Seigneu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yez sûr de l’amour du Sauveur 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yez toujours foi en lui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tous temps il vous conduit :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ésus Christ vous a livré sa vi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En tous lieux rendez grâce au Seigneur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joie la peine et la doule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est là, avec nous pour toujour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en ne peut nous séparer de lui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Peuple Saint, adorez votre Ro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eigneur victorieux du comba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alut est venu par la croi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jamais son amour règner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800600" y="29718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De son sein jaillit l’eau de la vi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r la croix, il a tout accompl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ses plaies, il nous envoie l’Espr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ts d’amour qui nous donnent la vi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ccueillez son Amour en vos vi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ant la croix contemplez Mari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éditez la Parole, espérez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demeure avec nous, jubilez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325520" y="1875600"/>
            <a:ext cx="6492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26. Laudate dom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udate dominum laudate domin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mnes gentes allelu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Dieu, louez Dieu dans son temple sain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-le au ciel de sa puissanc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-le pour ses actions éclatant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-le, louez-le selon sa grandeur, Alléluia, Alléluia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out être vivant chante louange Seigneur, Alléluia, Alléluia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out être vivant chante louange Seign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441520" y="641880"/>
            <a:ext cx="4260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27. A toi puissance et g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Toi puissance et gloire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Toi honneur et force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 Toi la majesté, ô Dieu à jamais 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i l’agneau immolé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t’es livré pour nous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as versé ton sang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nous sau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Et Dieu t’a exalté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l t’a donné le nom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-dessus de tout nom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ésus vainqu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Sur la terre et aux cieux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 genou fléchira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ute langue dira (bis)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Seigneur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5360" y="246600"/>
            <a:ext cx="5842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28. 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Le son de nos voix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illit comme un cri de joie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’écho de ce chant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tentira sur la te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Battons des mains. Elevons-L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hantons son Nom. Il est Di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nse Danse Danse pour ton Die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nne Sonne Sonne, Il est grand Il est glorieux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anse Danse Danse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nne Sonne So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Entend cet appel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ter pour Toi, vers le ciel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is ta création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se lève pour Ton Règ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565960" y="4419720"/>
            <a:ext cx="270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out ! Pour notre Dieu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out ! Elevons-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out ! Acclamons 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bou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337320" y="2880"/>
            <a:ext cx="53550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9. Je p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homm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fe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enfa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e repos des â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mie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ceux que j’a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autres aus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e père les soutien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ces ge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je ne connais 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aussi pour ceu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je n’aime p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a France, je prie pour le m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je prie aussi pour t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Ô mon Dieu écoute mes pr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Ô Seigneur, reçois mes requê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Ô Mon Dieu, en Toi j’esp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s toujours que ta volonté soit fa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29200" y="533520"/>
            <a:ext cx="4572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Je prie pour les jeun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urs proj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que Di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claire leurs 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mes par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leur rends grâ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m’avo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né la 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es prêtre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Evêques les diac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ur sacerdo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la Gloire de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prie pour la France, je prie pour le mo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je prie aussi pour t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2880"/>
            <a:ext cx="8991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3. Que vienne ton règ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vienne ton Règne, que ton nom soit sanctifié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r la terre comme au Ciel, que ta volonté soit faite.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 coule en torrent ton Esprit de vérité,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nne-nous ton espérance, ton amour, ta Sainteté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75120" y="2513160"/>
            <a:ext cx="3507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Qui pourrait nous sépar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ton amour Immense ?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i pourrait nous détourner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ta miséricorde ?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Tu habites nos louanges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inspires nos prière,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us attires en ta prés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ur nous tourner v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s frères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90640" y="2131920"/>
            <a:ext cx="36219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livre-nous de tout mal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onne la paix à ce temps !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ibère-nous du péché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i qui fais miséricorde !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assure-nous dans l'épreuve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ous espérons ton Royaume !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u nous promets le bonheur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'Avènement de Jésus !</a:t>
            </a:r>
            <a:br>
              <a:rPr sz="2000"/>
            </a:b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. Tu seras notre lumière,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l n'y aura plus de nuit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Ton Nom sera sur nos lèvres,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rmes, il n'y aura 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438280" y="177480"/>
            <a:ext cx="4159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30. Alleluia Louez le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eluia (x6) Alleluia allé, alleluia (x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Dans son temple Sa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u ciel de puiss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lon sa grande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s actions éclat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En sonnant du c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harpe et la cith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flûtes et les cord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danse et le tamb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Par les cymbales son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s cymbales triomph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e tout être viva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nte la loua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ouez le Seigneur allelu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832040" y="1112040"/>
            <a:ext cx="5587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0. Esprit Saint en nos cœ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rit Saint, en nos cœurs, tu descends, tu desc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51120" y="1737720"/>
            <a:ext cx="5441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1. Nous t’ado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'adorons, o Père dans ton templ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'adorons en esprit et en vérité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habites nous louang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'adorons en esprit et en véri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un jour près de Toi vaut mieux que mille aille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désire habiter dans ton temp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un jour près de Toi vaut mieux que mille aille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désire habiter dans Ta maison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désirer habiter dans Ta maison Seigne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120" y="284040"/>
            <a:ext cx="5548320" cy="66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52. Notre Dieu s’est fait ho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- Notre Dieu s'est fait homme pour que l'homme soit Dieu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stère inépuisable, fontaine du Salut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 Dieu dresse la table, Il convie ses ami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r que sa vie divine soit aussi notre vie!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- Le Seigneur nous convoque par le feu de l'Espri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 banquet de ses noces célébrées dans la joi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us sommes son Eglise, l'Epouse qu'il choisit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r vivre son alliance et partager sa vie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- Merveille des merveilles, miracle de ce jour!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r nous Dieu s'abandonne en cette Eucharisti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ssons toute indolence, le Christ est parmi nou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ueillons sa présence et offrons-nous à lui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 - Dieu se fait nourriture pour demeurer en nou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se fait vulnérable et nous attire à lui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ystère d'indigence d'un Dieu qui s'humili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ur que sa créature soit transformée en lui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38200" y="2514600"/>
            <a:ext cx="50011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 - II frappe à notre porte le Seigneur Tout-Puissant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attend humble et pauvre, mendiant de notre amour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nudé d'arrogance, sous l'aspect de ce pain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I se donne en offrande pour demeurer en nous.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- Que nos cœurs reconnaissent en ce pain et ce vi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'Unique nécessaire qui surpasse tout bien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 que nos yeux contemplent, sans beauté ni éclat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'est l'Amour qui s'abaisse et nous élève à lu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2320" y="778320"/>
            <a:ext cx="7479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3. A l’agneau de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vé à la droite de Die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ronné de mille couronn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resplendis comme un soleil radieux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 êtres crient autour de ton trône :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'Agneau de Dieu soit la gloire, A l'Agneau de Dieu la victoi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'Agneau de Dieu soit le règne Pour tous les siècles, amen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L'Esprit saint et l'épouse fidè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ent: "viens !" c'est leur cœur qui appelle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ô Jésus, toi l'époux bien aimé;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tes élus ne cessent de chant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ous les peuples et toutes les nation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'un seul cœur avec les milliers d'ang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tonneront en l'honneur de son nom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 chant de gloire, avec force et louan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541600" y="2422440"/>
            <a:ext cx="4060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4. Vous serez vraiment gr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serez vraiment grand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s la mesure où vous êtes peti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serez alors grands dans l´am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serez alors grands dans l´a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7240" y="1463040"/>
            <a:ext cx="4709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5. Mon père je m’abandonne à T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Père, mon Père, je m'abandonne à to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s de moi ce qu'il te plaira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i que tu fasses je te remerci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suis prêt à tout, j'accepte tou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 tu es mon père, je m'abandonne à toi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 tu es mon Père, je me confie en toi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Père, mon Père, en toi je me conf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 tes mains je mets mon esprit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te le donne, le cœur plein d'amo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 n'ai qu'un désir, t'apparten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15080" y="534600"/>
            <a:ext cx="4707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6. Prosternez-v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sternez-vous devant votre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orez-Le de tout votre cœ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ites monter vers Sa majes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chants de gloire pour votre Roi des Ro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33080" y="338040"/>
            <a:ext cx="4678200" cy="61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79200" tIns="15228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7. Céleste Jérusa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re cité se trouve dans les cieux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us verrons l’Epouse de l’Agneau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plendissante de la gloire de Dieu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éleste Jérusa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gneau deviendra notre flambea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nous passerons du solei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’y aura plus jamais de nui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répandra sur nous sa lumi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ieu aura sa demeure avec nou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essuiera les larmes de nos yeu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’y aura plus de pleurs ni de pein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 l’ancien monde s’en est all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t maintenant, voici le salut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ègne et la puissance de Die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yez donc dans la joie vous les Cieu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règnera sans fin dans les sièc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056320" y="610920"/>
            <a:ext cx="5028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8. Adorez-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rez-le, bénissez-le 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la louange de vos chants le glorifie 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rez-le, bénissez-le !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de vos cœurs jaillisse le feu de l'Esprit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Aujourd'hui, approchez-vous de Lu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ésentez-lui l'offrande de vos vies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D'un seul cœur, louez votr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son amour transforme vos v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05440" y="232560"/>
            <a:ext cx="63331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4. Qu’exulte tout l’uni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'exulte tout l'univers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soit chantée en tous lieux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puissance de Dieu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ns une même allégres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re et cieux dansent de joie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ntent allélu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r amour des pécheurs, la lumière est venu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e a changé les cœurs, de tous ceux qui l'ont reconn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ous étiez dans la nuit, maintenant jubi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u vous donne la vie, par amour il s'est incarn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Exultez rendez gloire, chantez que Dieu est b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 est notre victoire, Il est notre Résurre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Que chacun reconnaisse : Jésus est notre Ro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jetons nos tristesses, pour une éternité de jo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Toi l'unique Seigneur, envoie l'Esprit d'am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 régner dans nos cœurs, nous voulons hâter ton reto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6840" y="230760"/>
            <a:ext cx="37407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59. C’est par ta grâ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Tout mon être cherch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´où viendra le secours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 secours est en Dieu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 a créé les cieux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toute détres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vient me libérer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 le Dieu fidè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toute éternité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´est par ta grâc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je peux m´approcher de toi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´est par ta grâc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je suis racheté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fais de moi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e nouvelle création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mort, tu m´as sauvé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 ta résurrection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1560" y="2362320"/>
            <a:ext cx="297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u connais mes craint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connais mes pensée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nt que je naisse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m´avais appelé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jours tu pardonn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´un amour infin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 miséricor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un chemin de v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473200" y="227880"/>
            <a:ext cx="41979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0. Viens souffle de Dieu vi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Viens, souffle de Dieu, viens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hôte très doux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souffle de Dieu, viens !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de-nous, scrute-nous.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Éclaire-nous, Esprit de Dieu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brille la vérité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onde-nous de ta clarté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ns nous transformer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rit de Dieu, viens en nos cœurs !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prit de Dieu, viens en nos cœurs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iens, souffle de Dieu, vien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Maître en nos cœur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souffle de Dieu, vien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e-nous, conduis-no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Viens, souffle de Dieu, vien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flamme d´amou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ns, souffle de Dieu, viens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ûle-nous de ton feu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13720" y="914760"/>
            <a:ext cx="2716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61. Pour tant de grâ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e grâ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e tend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’a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on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e bo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ant d’allégre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on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e béniss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us te rendons grâ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ur ton  immense g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Roi du C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ère tout puiss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Mon Die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52640" y="475200"/>
            <a:ext cx="44251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0. Tu as porté celui qui porte t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 as porté celui qui porte tout,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re Sauveur en ton sein a pris chair.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e du Ciel, Reine de l´univers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Ô Marie, nous te saluons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Par amour, ton Dieu t´a choisi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ge béni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Seigneur exulte pour to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es sa joie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Tu accueilles, servante de Dieu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´ange des Cieux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romesse en toi s´accomplit 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as dit ´ oui ´!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80880" y="2286000"/>
            <a:ext cx="3871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L´Esprit Saint est venu sur toi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lue du Ro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nous donnes l´Emmanue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Ève nouvelle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Mère aimante, au pied de la croix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nous reçoi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 Jésus nous sommes confié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À ta bonté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Dans sa gloire, Dieu t´a accueilli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près de lui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 deviens, joie de l´Éternel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ine du Ciel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625200" y="1190520"/>
            <a:ext cx="1893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81. Totus tu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tus tuu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ia !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ratia plena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minus tecum !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otus tuus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a pro nobis,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ia, M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600" y="322560"/>
            <a:ext cx="43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82. Regarde l'éto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Si le vent des tentations s'élèv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tu heurtes le rocher des épreuve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es flots de l'ambition t'entraînent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l'orage des passions se déchaîne :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 l’étoile, invoque Mari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tu la suis, tu ne crains rien !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garde l’étoile, invoque Marie,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e te conduit sur le chemin !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ans l'angoisse et les périls, le dou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nd la nuit du désespoir te recouvre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devant la gravité de tes faut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pensée du jugement te tourmente :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37720" y="1066680"/>
            <a:ext cx="4702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Si ton âme est envahie de colèr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alousie et trahison te submergent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ton coeur est englouti dans le gouffr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mporté par les courants de tristesse :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. Elle se lève sur la mer, elle éclair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 éclat et ses rayons illuminent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 lumière resplendit sur la terre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es cieux et jusqu'au fond des abîmes.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DA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tu la suis, tu ne dévies pas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 tu la pries, tu ne faiblis pas.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ne crains rien, elle est avec toi,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jusqu’au port, elle te guidera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286360" y="1328760"/>
            <a:ext cx="457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83. Je te salue Marie (Glorio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te salue Marie, comblée de grâ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igneur est avec t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bénie Marie, entre toutes les fem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Jésus le fruit de tes entrailles est bé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inte Marie, Mère de Di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Ô prie pour nous, pauvres pêch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ès maintenant et jusqu’à l’h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notre mort, A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 Maria, ave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ve Maria, Ave M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000" y="137880"/>
            <a:ext cx="4821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5. Bénissez le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Vous les cieux, des eaux dessus les cieux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s la lune, Le ciel et les étoiles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vous les jeunes, De la terre entièr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 c’que je veux c’est Te louer mon Die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 c’que je veux T’élever dans les Cieux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 c’que je veux c’est Te louer mon Die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Tout c’que je veux T’élever dans les Cieux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Nana Na na na na na Nana nana (bi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2200" y="4724280"/>
            <a:ext cx="4354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Vous son peuple et tous ses serviteu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us les Saints et les humbles de cœ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vous les jeunes de la terre entiè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04560" y="4800600"/>
            <a:ext cx="4188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Lumière et ténèbres, éclairs et nué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its et jours, les abîmes et la clarté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 vous les jeunes, de la terre entiè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énissez le Seign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34800" y="-49680"/>
            <a:ext cx="847440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6. Que ma bouche chante ta louang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De toi Seigneur nous attendons la vie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pour nous un rempart un appui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 joie du cœur vient de toi ô Seigneur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tre confiance est dans ton nom très Saint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loué, Seigneur, pour ta grandeur, soit loué pour tous tes bienfait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loire à toi, Seigneur, tu es vainqueur, ton amour inonde nos cœurs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Que ma bouche chante ta louange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Seigneur tu as éclairé notre nuit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lumière et clarté sur nos pas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affermis nos mains pour le combat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igneur, tu nous fortifies dans la foi..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Tu viens sauver tes enfants égarés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Qui dans leur cœur espèrent en ton amour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ans leur angoisse ils ont crié vers toi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igneur tu entends le son de leur voix...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. Des ennemis toi tu m'as délivré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'agresseur tu m'as fait triompher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e te rends grâce au milieu des nations...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igneur en tout temps je fête ton no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3280" y="-43200"/>
            <a:ext cx="70574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7. Jubilez, criez de joi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bilez ! Criez de joie ! Acclamez le Dieu trois fois Saint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nez le prier dans la paix ; témoigner de son am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bilez ! Criez de joie ! pour Dieu notre Die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ez le Dieu de lum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nous arrache aux ténè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nez en sa clar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enfants de sa lumiè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Ouvrez-vous, ouvrez vos cœ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Dieu de miséric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z-vous réconci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issez-vous transfigu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À l’ouvrage de sa grâ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rez toute votre 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pourra vous trans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i, le Dieu qui sanctif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Louange au Père et au F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uange à l’Esprit de glo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enheureuse Trinité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re joie et notre vie 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7320" y="230040"/>
            <a:ext cx="430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8. Alléluia, Jubilate </a:t>
            </a:r>
            <a:br>
              <a:rPr sz="1800"/>
            </a:b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, Alléluia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ubilate Deo.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lléluia, Alléluia, 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Jubilate, Alléluia.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1. Louez Dieu car il est bon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on Amour est éternel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'Orient à l'Occident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Bénissons Dieu pour ses merveilles,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. Dieu le Père a envoyé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ésus-Christ pour nous sauver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ierge Marie, tu as dit « oui »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'Emmanuel en toi prend chair, alléluia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16280" y="2134080"/>
            <a:ext cx="452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3. Ô Seigneur dans ta passion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as porté chacun de nous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l'ennemi et du péché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u es vainqueur, ressuscité, alléluia ! </a:t>
            </a:r>
            <a:br>
              <a:rPr sz="1800"/>
            </a:b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4. Pour toujours, tu es vivant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e ton coeur, brasier ardent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ous puisons l'esprit de vie, alléluia ! </a:t>
            </a:r>
            <a:br>
              <a:rPr sz="18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ur t'annoncer au monde entier : alléluia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652400" y="914760"/>
            <a:ext cx="58392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9. Acclamez terre entiè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cclamez terre entière, chantez à pleine vo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l a pris vos misères par sa mort sur la croi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le Dieu de vos pères vainqueur de vos comba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lamez terre entière, chantez alléluia !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éluia, alléluia, alléluia, alléluia ! (BIS)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Il a fait des merveilles c’est Lui le tout puissa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n amour est fidèle nous sommes ses enf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son de la trompette et tous les instru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ultez terre entière, laissez jaillir ce chant !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Il est roi de la terre et tous ses habita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’est en Lui que j’espère car Il est bien prés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 la mer ses richesses, les montagnes et les champ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lament sans cesse ; Lui redisent ce ch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SIM</cp:lastModifiedBy>
  <dcterms:modified xsi:type="dcterms:W3CDTF">2014-11-07T15:48:19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